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46D-E5EA-45D4-A5BE-EC7B768A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506-E944-4507-B0F7-9A37519C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6EB-71B6-4A48-A134-F76A30B5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34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66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34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66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45B-3C9D-48BF-803B-7EDCEB58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D20-B5C9-442D-A318-69157D05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734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466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6002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734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466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D35-6ED7-48C8-805D-D841595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3B4-2ADC-47BE-8F11-579ADE8D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76F-E368-49E7-B171-B240267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F83-DC6A-44D0-A547-EB2C050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177-D658-4F7E-A22C-4F38F00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2B0-0A6E-4B1D-8AED-2E75F0B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E1E-51A4-4BD3-84F4-F27F2998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99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324120"/>
            <a:ext cx="2895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324120"/>
            <a:ext cx="1371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4F79-5144-4930-B0D4-3FD83D479BE8}" type="slidenum"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343400" y="5638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3400" y="304920"/>
            <a:ext cx="4648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veloping the power sector in Federal Nepal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in lessons from international experience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400" y="53337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athmandu, November 06, 2018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419720" y="3581280"/>
            <a:ext cx="4647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Three pillars to be addressed to achieve sustainable good performance of the power sector in an emerging country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ystematic optimized (least-cost) planning and implementation of investments in all segments of the supply chai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ment’s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 to address security of supply in a context of growing dema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pecific approach is needed for electrification to move towards universal acces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fficient operational performance of service providers (utilities) in all business areas: electricity supply, commercial functions, management of corporate resourc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icity sector exists to serve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inancial sustainability: revenues (tariff + subsidies) allowing recovery of costs of efficient service delivery 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iff revenues allocated among categories of consumers (tariff charges) to recover costs incurred for efficient service provi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afety net” to protect low-income users unable to pay cost-reflective charges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Adequacy of institutional and organizational arrangements should be assessed considering the key matters above  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E05-3A2A-486F-AFA2-1C0A269F26F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mized (least-cost) planning and implementation of investment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646200" y="1341360"/>
            <a:ext cx="8272440" cy="49071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0CCD-02A1-4939-8394-5FB6F4516CC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mized (least-cost) planning and implementation of investment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ffective implementation of the outcomes of the LCPDP through competitive procurement processes: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ly by service utilities (mainly investments in network extension, rehabilitation and upgrade), using the most convenient financing arrangements available to the country (grants, concessional loans from development partn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new agents (competition FOR the marke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dependent power producers (IPPs) for new electricity generation proje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cial-purpose companies (transmission service providers) for construction and operation of new transmission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ng term contracts (power purchase and transmission service agreements) signed with distribution and retail ut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A3AC-AFB8-4B80-8D65-7E3B5872E6A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fficient operational performance of the service providers (utilitie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Efficient operational performance means: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of service provided to customers in full compliance with applicable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amounts of energy being consumed are permanently billed and col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s incurred reflect efficiency in operations in all business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Comprehensive experience in developing countries in successful improvement of operational performance of service utilities in the electricity sector under all types of sector structures and ownership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ly integrated state-owned enterprises; unbundled sectors with mixed ownership (private and state-owned companies) in distribution and retail;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and without independent regulato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Improvement of performance requires the definition and effective implementation of Performance Improvement Plans (PIPs) addressing operations in all business areas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FB3F-2D19-46B5-8FEA-9FE5BDDC045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areas usually addressed in Performance Improvement Plans (PIP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030a0"/>
                </a:solidFill>
                <a:latin typeface="Arial"/>
              </a:rPr>
              <a:t>Definition and implementation of an adequate organizational structure including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functions and responsibilities of positions at all levels, skills required for each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tive and transparent selection of staff to occupy positions at all levels. Training to strengthen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030a0"/>
                </a:solidFill>
                <a:latin typeface="Arial"/>
              </a:rPr>
              <a:t>Incorporation of management information systems (MIS) to make more efficient, transparent and accountable the development of processes and activities in all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and maintenance (O&amp;M) of assets for service delivery and attending customers’ claims; commercial functions; management of  corporate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030a0"/>
                </a:solidFill>
                <a:latin typeface="Arial"/>
              </a:rPr>
              <a:t>Development of local capacity: the well-performing performing utilities are run by local management teams with the right technical and ethics skills, using adequate supporting tools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B48-AEBE-4D66-9984-77E545EC81C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sustainabilit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gulations should allow operating companies to permanently collect revenues needed to recover costs of efficient service provis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low-income countries, tariff revenues could be set initially to recover all operating costs (including PPAs, TSAs, financing, etc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venues should be allocated among categories of consumers (tariff charges) to recover costs incurred for efficient service provision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equacy of tariff structure should be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 “social safety net” protecting only low-income users unable to pay cost-reflective tariff rates should be designed and put in 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ed using cross-tariff subsidization or external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ost regressive subsidization is that from low-income people (sometimes not having access to electricity service) to electricity consumers able to pay cost-reflective rates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6210-520B-4461-8D84-43E409A07D3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sustainabilit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gulations should be issued and systematically applied within a framework of full transparency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consultation and public hearing processes should be adopted in all cases (transparency cannot exist without publicity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gulations must be complemented by others on quality of service received by electricity consum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forcement of regulations on quality of service requires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ures to systematically record and monitor key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of penalties (payments made to affected consumers) in cases of non-compliance </a:t>
            </a: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1600-BD42-483A-BD5D-DE8C74136A5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17524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Thank you!</a:t>
            </a: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343400" y="5410080"/>
            <a:ext cx="46483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419720" y="3581280"/>
            <a:ext cx="4647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5:48Z</dcterms:created>
  <dc:creator>wb247767</dc:creator>
  <dc:description/>
  <dc:language>en-US</dc:language>
  <cp:lastModifiedBy>Pedro Antmann</cp:lastModifiedBy>
  <dcterms:modified xsi:type="dcterms:W3CDTF">2018-11-06T00:42:19Z</dcterms:modified>
  <cp:revision>649</cp:revision>
  <dc:subject/>
  <dc:title>ЗАКУПКА КОНСУЛЬТАЦИОННЫХ УСЛУГ</dc:title>
</cp:coreProperties>
</file>